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19B-F174-489B-9502-F4894373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E24-B82F-4230-98AB-72FE7C25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EA1-26F0-4505-9A59-205AF6EA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073-8BAA-4D03-B8CA-EE43BABA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76A-9375-4165-A93D-F0B7CBB5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0FE-DBB5-4450-B44F-79134E57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23F-338A-48FA-A7D7-91BE4DDA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CC5-7668-466F-B513-FA38E709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CDE-4471-4B87-8F2A-A902147C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B7A-8ABA-45F2-B663-616C45E4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614-EEDC-4BDB-9276-7A7DD25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331-55F4-455F-860C-FD7E963C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FFE0-759C-4E18-8047-DD590D6006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ffff"/>
                </a:solidFill>
                <a:latin typeface="Arial"/>
              </a:rPr>
              <a:t>National 4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dded Value Un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dern 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1905120" cy="100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hat’s it all abou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7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part of the new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4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 you have to complete a project called the ‘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ed Value Unit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project involves doing a presentation in the foreign language, followed by questions in the foreign language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will my presentation be on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teacher will suggest a presentation topic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then be given at least 4 themes within that topic to choose from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work and do research on your presentation independently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hat skills will I be learning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learn how to take and make notes, good presentation skills, research skills, IT skills, questioning skills and how to work well independently.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of these will help prepare you to do a good presenta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What resources can I use in my presentation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resources will be dependant on several things but you can use a power-point, photos, props, magazine articles or anything that you feel would aid your presenta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teacher will provide you with at least 2 reading resources and some language suppor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long does it have to b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5884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9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presentation should last about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follow up questions should also last about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inute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inutes in total!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2324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will I record my progres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teacher will provide you with your own AVU Progress Record.  You will use this to evaluate your progress at various stages and to plan your next step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personal progress record will also help ensure that you are aware of timelines and help you to reflect on skills you are learning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How will my presentation be marked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45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teacher will use the success criteria created with the class to assess your presentation.  There is no grade for the unit.  Your overall presentation will be pass or fail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76920" y="4343400"/>
            <a:ext cx="30286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ny Questions??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29908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</cp:lastModifiedBy>
  <dcterms:modified xsi:type="dcterms:W3CDTF">2012-11-13T09:31:2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